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241-62A4-4AA0-A7BD-588D6B23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86C-2A3F-4DC4-BDC5-4C15377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55B-6004-4278-B630-E0E1D87E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83D-4AB8-414F-86C2-6870DB6A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44D-D3B3-4D17-8206-F136812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2A3-623B-4344-82DB-9FC6E2B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EBB-29BB-4819-B1CF-6671ED6D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51C-C2E1-4881-8A6F-A5135A9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8D9-1B94-4612-B09F-B4933E7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EE6-585A-4980-BA1D-49D913A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A83-EEC5-49BB-9E34-9579A136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528-7D3C-4F97-85B5-9DFC3CB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4C1-F641-41E0-8A15-9873219A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.images.search.yahoo.com/search/images;_ylt=Axt7wmNOqmlQTkcAGSOzRwx.?p=kids+picture&amp;fr=chr-greentree_gc&amp;fr2=piv-web" TargetMode="External"/><Relationship Id="rId2" Type="http://schemas.openxmlformats.org/officeDocument/2006/relationships/hyperlink" Target="http://ph.search.yahoo.com/search?fr=chr-greentree_gc&amp;ei=utf-8&amp;ilc=12&amp;type=937811&amp;p=IMAGES" TargetMode="External"/><Relationship Id="rId3" Type="http://schemas.openxmlformats.org/officeDocument/2006/relationships/hyperlink" Target="http://ph.search.yahoo.com/search?fr=chr-greentree_gc&amp;ei=utf-8&amp;ilc=12&amp;type=937811&amp;p=IMAGES" TargetMode="External"/><Relationship Id="rId4" Type="http://schemas.openxmlformats.org/officeDocument/2006/relationships/hyperlink" Target="http://ph.search.yahoo.com/search?fr=chr-greentree_gc&amp;ei=utf-8&amp;ilc=12&amp;type=937811&amp;p=IMAGES" TargetMode="External"/><Relationship Id="rId5" Type="http://schemas.openxmlformats.org/officeDocument/2006/relationships/hyperlink" Target="http://ph.search.yahoo.com/search?fr=chr-greentree_gc&amp;ei=utf-8&amp;ilc=12&amp;type=937811&amp;p=IMAGES" TargetMode="External"/><Relationship Id="rId6" Type="http://schemas.openxmlformats.org/officeDocument/2006/relationships/hyperlink" Target="http://ph.search.yahoo.com/search?fr=chr-greentree_gc&amp;ei=utf-8&amp;ilc=12&amp;type=937811&amp;p=IMAGES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t Orange"/>
              </a:rPr>
              <a:t>Loop Learning pre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Maraye B. Madri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l 2- Matulun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5333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oal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Value their families and the people around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Count and recognize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Demonstrate speaking, listening, writing and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nteract and respect each other in the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Numb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ore and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Equivalent and non-equivalen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mple addition and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Ordi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lphabet sequencing (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nten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0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5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rts of the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o and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motions an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ommunity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piritu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oci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36320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Tell if you know, ask if you don't.”</a:t>
            </a:r>
            <a:br>
              <a:rPr sz="4000"/>
            </a:b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- Duane Alan Ha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3505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315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h.images.search.yahoo.com/search/images;_ylt=Axt7wmNOqmlQTkcAGSOzRwx.?p=kids+picture&amp;fr=chr-greentree_gc&amp;fr2=piv-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h.search.yahoo.com/search?f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hr-greentree_gc&amp;e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utf-8&amp;ilc=12&amp;type=937811&amp;p=IM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02:22:36Z</dcterms:created>
  <dc:creator>madrid</dc:creator>
  <dc:description/>
  <dc:language>en-US</dc:language>
  <cp:lastModifiedBy>madrid</cp:lastModifiedBy>
  <dcterms:modified xsi:type="dcterms:W3CDTF">2012-10-01T14:36:36Z</dcterms:modified>
  <cp:revision>7</cp:revision>
  <dc:subject/>
  <dc:title>Loop Learning pre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